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94C8-9D2B-4453-A269-11AF01521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7720" y="449208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E6B2-ACDE-44CC-B34B-FA1379D59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772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4100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8462E-DBAF-4858-8987-3C236100C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528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5284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772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528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5284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A005-F406-40BD-93BB-ADAC88475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62687-EA42-4E48-8794-C1887DB920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E5C42-0D2B-46AA-AA17-D94A50E927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2D0F8-A0BF-4830-8DD8-A6C50CA528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4100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EBCAF-5CD6-499B-A892-003BE77054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B79DC-0996-4F26-BB16-754AE057D3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5840"/>
            <a:ext cx="8385120" cy="87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746AD-F94F-40FB-88B7-5457B2A19F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4100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772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C8263-2464-4E6D-9925-CBA5CD5160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199E-894C-42EC-98CA-616A1C910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4100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5775A-12EE-4450-BF4D-1EEC933847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7720" y="449208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91696-6215-4C1B-B862-A6449F3CBD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37720" y="449208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D1319-EF2F-4B16-8F35-FA32D7F814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772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94100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09FB0-6516-469C-AF45-496E886D81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528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52840" y="190512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3772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528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52840" y="4492080"/>
            <a:ext cx="257832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D62B0-160A-4D8B-A598-47FFA2150C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DDA9-24E0-4D06-935C-0A03FEEAD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4100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F175-5638-425B-8C62-C4B6889D9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DF94-3D2D-4235-9EEE-C8388E59F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5840"/>
            <a:ext cx="8385120" cy="87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D22D-73EB-4F5E-99BE-D3AF975B8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100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772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2CD6-EDD2-4839-88F4-FD94F2D37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4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4100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41000" y="449208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46C4-F4B6-4BBD-8E8E-136789058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41000" y="1905120"/>
            <a:ext cx="390744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4492080"/>
            <a:ext cx="800748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EC531-585D-4558-8C7D-AF7CDE551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730640" y="6244920"/>
            <a:ext cx="311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38BA-82C9-43A9-8543-C3C8FAFC6FE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7730640" y="6244920"/>
            <a:ext cx="311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B20D-8AC9-41B4-8DFB-DE415119DFE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7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9" name="AutoShape 1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04" y="0"/>
                  </a:moveTo>
                  <a:lnTo>
                    <a:pt x="1296" y="8664"/>
                  </a:lnTo>
                  <a:lnTo>
                    <a:pt x="0" y="8664"/>
                  </a:lnTo>
                  <a:lnTo>
                    <a:pt x="23" y="2156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1304" y="0"/>
                  </a:lnTo>
                  <a:close/>
                  <a:moveTo>
                    <a:pt x="1304" y="0"/>
                  </a:moveTo>
                </a:path>
              </a:pathLst>
            </a:custGeom>
            <a:solidFill>
              <a:srgbClr val="006600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AutoShape 2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0066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AutoShape 3"/>
            <p:cNvSpPr/>
            <p:nvPr/>
          </p:nvSpPr>
          <p:spPr>
            <a:xfrm>
              <a:off x="318960" y="3773520"/>
              <a:ext cx="5484960" cy="45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AutoShape 4"/>
            <p:cNvSpPr/>
            <p:nvPr/>
          </p:nvSpPr>
          <p:spPr>
            <a:xfrm>
              <a:off x="838080" y="1752480"/>
              <a:ext cx="7769160" cy="4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AutoShape 5"/>
            <p:cNvSpPr/>
            <p:nvPr/>
          </p:nvSpPr>
          <p:spPr>
            <a:xfrm>
              <a:off x="318960" y="3773520"/>
              <a:ext cx="47520" cy="310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0880" y="21600"/>
                  </a:lnTo>
                  <a:lnTo>
                    <a:pt x="21600" y="412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AutoShape 6"/>
            <p:cNvSpPr/>
            <p:nvPr/>
          </p:nvSpPr>
          <p:spPr>
            <a:xfrm>
              <a:off x="838080" y="1752480"/>
              <a:ext cx="46080" cy="5119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0110" y="27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Marking the Text</a:t>
            </a:r>
            <a:endParaRPr b="0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3962160"/>
            <a:ext cx="6781680" cy="28954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9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8" name="AutoShape 1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0066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AutoShape 2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84" y="12027"/>
                  </a:moveTo>
                  <a:lnTo>
                    <a:pt x="0" y="12027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1284" y="0"/>
                  </a:lnTo>
                  <a:lnTo>
                    <a:pt x="1284" y="12027"/>
                  </a:lnTo>
                  <a:close/>
                  <a:moveTo>
                    <a:pt x="1284" y="12027"/>
                  </a:moveTo>
                </a:path>
              </a:pathLst>
            </a:custGeom>
            <a:solidFill>
              <a:srgbClr val="0066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AutoShape 3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AutoShape 5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0110" y="27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AutoShape 6"/>
            <p:cNvSpPr/>
            <p:nvPr/>
          </p:nvSpPr>
          <p:spPr>
            <a:xfrm>
              <a:off x="836640" y="4610160"/>
              <a:ext cx="45720" cy="224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21600"/>
                  </a:lnTo>
                  <a:lnTo>
                    <a:pt x="20855" y="366"/>
                  </a:lnTo>
                  <a:lnTo>
                    <a:pt x="0" y="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AutoShape 8"/>
            <p:cNvSpPr/>
            <p:nvPr/>
          </p:nvSpPr>
          <p:spPr>
            <a:xfrm>
              <a:off x="318960" y="4610160"/>
              <a:ext cx="47520" cy="224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0880" y="21600"/>
                  </a:lnTo>
                  <a:lnTo>
                    <a:pt x="21600" y="412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at is Marking the Text?</a:t>
            </a: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A reading strategy that identifies information in the text that is relevant to the reading purp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3 distinct ma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Numbering Para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Underli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Circ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9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AutoShape 1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0066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2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84" y="12027"/>
                  </a:moveTo>
                  <a:lnTo>
                    <a:pt x="0" y="12027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1284" y="0"/>
                  </a:lnTo>
                  <a:lnTo>
                    <a:pt x="1284" y="12027"/>
                  </a:lnTo>
                  <a:close/>
                  <a:moveTo>
                    <a:pt x="1284" y="12027"/>
                  </a:moveTo>
                </a:path>
              </a:pathLst>
            </a:custGeom>
            <a:solidFill>
              <a:srgbClr val="0066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AutoShape 3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4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5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0110" y="27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6"/>
            <p:cNvSpPr/>
            <p:nvPr/>
          </p:nvSpPr>
          <p:spPr>
            <a:xfrm>
              <a:off x="836640" y="4610160"/>
              <a:ext cx="45720" cy="224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21600"/>
                  </a:lnTo>
                  <a:lnTo>
                    <a:pt x="20855" y="366"/>
                  </a:lnTo>
                  <a:lnTo>
                    <a:pt x="0" y="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AutoShape 7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318960" y="4610160"/>
              <a:ext cx="47520" cy="224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0880" y="21600"/>
                  </a:lnTo>
                  <a:lnTo>
                    <a:pt x="21600" y="412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umbering Paragraphs</a:t>
            </a: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Arial"/>
              </a:rPr>
              <a:t>Number each paragraph (even if it is 1 lin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Arial"/>
              </a:rPr>
              <a:t>Write the # near the paragraph indentation &amp; circle the #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# small enough so that you have room to write in the mar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9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0" name="AutoShape 1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0066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AutoShape 2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84" y="12027"/>
                  </a:moveTo>
                  <a:lnTo>
                    <a:pt x="0" y="12027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1284" y="0"/>
                  </a:lnTo>
                  <a:lnTo>
                    <a:pt x="1284" y="12027"/>
                  </a:lnTo>
                  <a:close/>
                  <a:moveTo>
                    <a:pt x="1284" y="12027"/>
                  </a:moveTo>
                </a:path>
              </a:pathLst>
            </a:custGeom>
            <a:solidFill>
              <a:srgbClr val="0066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3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AutoShape 4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5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0110" y="27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AutoShape 6"/>
            <p:cNvSpPr/>
            <p:nvPr/>
          </p:nvSpPr>
          <p:spPr>
            <a:xfrm>
              <a:off x="836640" y="4610160"/>
              <a:ext cx="45720" cy="224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21600"/>
                  </a:lnTo>
                  <a:lnTo>
                    <a:pt x="20855" y="366"/>
                  </a:lnTo>
                  <a:lnTo>
                    <a:pt x="0" y="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AutoShape 7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utoShape 8"/>
            <p:cNvSpPr/>
            <p:nvPr/>
          </p:nvSpPr>
          <p:spPr>
            <a:xfrm>
              <a:off x="318960" y="4610160"/>
              <a:ext cx="47520" cy="224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0880" y="21600"/>
                  </a:lnTo>
                  <a:lnTo>
                    <a:pt x="21600" y="412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le</a:t>
            </a: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Circle Key Terms, Names of People, Names of Places, and D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y Terms= words or phrases that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epeated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used in a unique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defined by the author</a:t>
            </a:r>
            <a:r>
              <a:rPr b="0" lang="en-US" sz="3200" spc="-1" strike="noStrike">
                <a:solidFill>
                  <a:srgbClr val="ffffff"/>
                </a:solidFill>
                <a:latin typeface="ヒラギノ角ゴ ProN W3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entral idea 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used to explain or represent an id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relevant to the reading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9"/>
          <p:cNvGrpSpPr/>
          <p:nvPr/>
        </p:nvGrpSpPr>
        <p:grpSpPr>
          <a:xfrm>
            <a:off x="316080" y="1833480"/>
            <a:ext cx="8824320" cy="5029200"/>
            <a:chOff x="316080" y="1833480"/>
            <a:chExt cx="8824320" cy="5029200"/>
          </a:xfrm>
        </p:grpSpPr>
        <p:sp>
          <p:nvSpPr>
            <p:cNvPr id="121" name="AutoShape 1"/>
            <p:cNvSpPr/>
            <p:nvPr/>
          </p:nvSpPr>
          <p:spPr>
            <a:xfrm>
              <a:off x="834840" y="4622760"/>
              <a:ext cx="8305560" cy="223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solidFill>
              <a:srgbClr val="0066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2"/>
            <p:cNvSpPr/>
            <p:nvPr/>
          </p:nvSpPr>
          <p:spPr>
            <a:xfrm>
              <a:off x="330120" y="1833480"/>
              <a:ext cx="8810280" cy="502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284" y="12027"/>
                  </a:moveTo>
                  <a:lnTo>
                    <a:pt x="0" y="12027"/>
                  </a:ln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1284" y="0"/>
                  </a:lnTo>
                  <a:lnTo>
                    <a:pt x="1284" y="12027"/>
                  </a:lnTo>
                  <a:close/>
                  <a:moveTo>
                    <a:pt x="1284" y="12027"/>
                  </a:moveTo>
                </a:path>
              </a:pathLst>
            </a:custGeom>
            <a:solidFill>
              <a:srgbClr val="0066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AutoShape 3"/>
            <p:cNvSpPr/>
            <p:nvPr/>
          </p:nvSpPr>
          <p:spPr>
            <a:xfrm>
              <a:off x="834840" y="4659120"/>
              <a:ext cx="8305560" cy="220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4"/>
            <p:cNvSpPr/>
            <p:nvPr/>
          </p:nvSpPr>
          <p:spPr>
            <a:xfrm>
              <a:off x="834840" y="1833480"/>
              <a:ext cx="7313400" cy="4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AutoShape 5"/>
            <p:cNvSpPr/>
            <p:nvPr/>
          </p:nvSpPr>
          <p:spPr>
            <a:xfrm>
              <a:off x="834840" y="1833480"/>
              <a:ext cx="45720" cy="2833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0110" y="27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6"/>
            <p:cNvSpPr/>
            <p:nvPr/>
          </p:nvSpPr>
          <p:spPr>
            <a:xfrm>
              <a:off x="833400" y="4614840"/>
              <a:ext cx="45360" cy="224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21600"/>
                  </a:lnTo>
                  <a:lnTo>
                    <a:pt x="20855" y="366"/>
                  </a:lnTo>
                  <a:lnTo>
                    <a:pt x="0" y="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AutoShape 7"/>
            <p:cNvSpPr/>
            <p:nvPr/>
          </p:nvSpPr>
          <p:spPr>
            <a:xfrm>
              <a:off x="316080" y="4614840"/>
              <a:ext cx="4570200" cy="4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AutoShape 8"/>
            <p:cNvSpPr/>
            <p:nvPr/>
          </p:nvSpPr>
          <p:spPr>
            <a:xfrm>
              <a:off x="316080" y="4614840"/>
              <a:ext cx="47160" cy="224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0880" y="21600"/>
                  </a:lnTo>
                  <a:lnTo>
                    <a:pt x="21600" y="412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840"/>
            <a:ext cx="8385120" cy="1889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derline</a:t>
            </a:r>
            <a:endParaRPr b="0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ine an author’s clai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aim is a statement that is argued or asserted (declared; stated) by the auth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author’s make many cla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aim may not be written out in the 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aim can be found anywhere in the arti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Underline relevant information as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acher</dc:creator>
  <dc:description/>
  <cp:keywords/>
  <dc:language>en-US</dc:language>
  <cp:lastModifiedBy>TylerDaughtry</cp:lastModifiedBy>
  <dcterms:modified xsi:type="dcterms:W3CDTF">2013-09-03T17:35:41Z</dcterms:modified>
  <cp:revision>2</cp:revision>
  <dc:subject/>
  <dc:title>Marking the Text</dc:title>
</cp:coreProperties>
</file>